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26B-CE84-4ABD-84DC-C0260BF4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FEE-F9E4-43DF-8B1B-ED6BFC89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334EF-9DA2-4238-95C7-641F85A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CF7B-09A8-436A-9D3B-11E295A6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515CF-99C0-4D75-A7AE-8FA1A44F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156F5-4369-4EC6-92EC-135A0F18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9849B-AE2C-400A-ACF0-913738B7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F7BE1-BC0A-41D7-B904-DCA04BC5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80490-06D5-4FD8-851D-B5023F90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D28A8-5AAA-42D8-ACAE-A2521552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E14BA-E26D-40B6-BCAD-C8DEDCAC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03D6A-DB1C-4C55-A34F-8783322F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A3C-9C7A-45C1-AC50-44C7917F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DD852-83E8-4AFB-9F8C-5F5B614B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8BCBE-E438-4E61-99CD-94AA1945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80FAF-5FA6-48DB-B1A4-A9071E92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7011B-AC6A-4E53-AF7F-102F24DB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BBBB2-AEC4-4CF8-B77E-4848C8DA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80081-8FD2-467E-808F-A67AF3FF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56DE8-9FB9-402B-9CD4-1F457AD0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69C12-7ADC-454A-A485-D95B0185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9EF56-0D82-45D3-8725-B43FCAA9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1FB62-B24C-4516-A354-6F118CCA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B5D-D4AD-480A-876D-CE4B1AD7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A2717-924D-473C-9087-86C786A5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16EFD-8902-4890-897D-01BFFD25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EBB3A-2D39-4F13-81C4-11CC6D85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28159-ABD8-43F2-AED0-6F64BEDE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CEBE5-821F-43F4-B63A-6BB2E665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6DFDC-5C1F-4479-8CA1-EFD4EA55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72259-9778-4FC7-A3FA-19D2F633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0E908-1B6C-4149-80DF-276CD89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DF50D-F5EA-481A-8168-A531DE0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9CB71-22B5-4BB8-89DA-6D8BC6C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6A4D-FD3A-405E-BBE2-CC238CC6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BAA9E-966B-4C8C-99CD-9A44C221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3F53E-C09C-4B66-AE3F-02D6B8BD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8E3CB-2BA8-4EEB-AFF9-DA53C9D8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585CC-AB54-41F6-9244-D279BC7B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7D0FB-156A-42E3-9477-843B66F6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036A8-7592-4980-A02D-5198E9A7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FCCB5-CBD3-4E46-926E-FC322419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0A428-0727-4AB0-9631-FF5511AF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0B341-B1DA-4E11-AF2E-3FD3E26E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E6375-522A-4123-A88B-F6E7CA2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9B20-F338-4850-933C-C0FFAF63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ECB23-26C1-4D3C-86FF-51A7E639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08AEF-13C7-4355-8336-A6A03126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33EAF-B978-45F6-A892-67C9910B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D5981-7DFA-4CE2-ABB0-4BEC813F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EC3B8-1095-4BAC-B3F8-3F5BB9B6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341C-5C93-4511-A495-40F55880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0A46-03B0-4232-9C7D-50165426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98A8-6FF7-4B9E-987A-24C5AA49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0E7A-EBE9-40B4-B4B0-8D88F4B1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B740-9EA8-4639-915E-2448BDE7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B54-7FDB-415F-A0A4-1FC97908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71D2-2C81-4ED3-9EAA-CB38F5C6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EF65-F799-4D32-BAE3-85450EC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C858-ECC8-4A63-98C6-F13A68A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D9F6-BA7A-4907-B915-11E85A0C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8587-FB06-455F-8D78-1D937ECC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77CE-97BC-41F7-8E66-D1A831AA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138A-0353-49BF-B452-E7E5C4EE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1FF7-56E6-4608-8588-CB30DC28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B9B4-F5A9-4066-94B5-6BD02123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06E17-7870-486E-A5AA-1D13A874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B40-2513-4B70-BA49-AB6014B4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395C-C201-4FCA-BA27-26051D21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85AF-9D5E-4D13-842F-C8DB7CE5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5B48-E882-4CED-9BA0-B3423BA9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CCD1-F8BF-4534-8025-E5154FB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828B-0B58-479B-80A4-AB75A105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9DA4-8EE9-43C1-A868-4B1C95E7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AE4B-9DEB-40DA-8F34-194C12BA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6671-B96A-4297-9C93-F6F9FDAE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40B7-D86C-41B1-813A-48DB07CC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C774B-0D6D-4208-AD43-EC180B60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4B8-14E1-40C5-BFB9-40D8B17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05EA-1F3C-4BD1-AEAD-6A631584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5B22-E27D-4675-92E9-90E5A62D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6B48-646B-44F3-8841-D6E13EF1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AE14-EB3D-41E3-A31B-FB6E1478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67ED-610E-4862-A5B9-C379B046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8AAB-A6AC-4B6D-98F3-808F9EA3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D8F7C-F6E9-4DD7-BEB7-2E0F2B6E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E9450-E0AE-4D27-802B-7681F175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9A10-59A7-4CCF-9329-54C5DC9A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6A33-4E2B-475E-9475-8D372053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43C-2E4E-49BD-903A-AB4AB358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A8AD5-5B94-4350-8059-4D97F4CA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8C0CD-B525-4B33-8A0F-C525DD0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8C046-A176-4828-A40F-6748F6A0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FFD56-DCF3-4D27-BE5A-E0347EC8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EADB-4617-4C65-90FD-2382429D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CC3B-B6AF-4F4B-9E53-CF3F573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94CD-6AEE-44B8-9B49-5E03AFA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64F4-B47C-4FDE-9CF4-682FEA1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CDE5-CB4E-4C45-86C6-0192CFBE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F849-031B-412B-AEEC-9EA39F4B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DFE-5805-4595-9BD1-F24DF52A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FDE3-4491-4079-A201-5D95E8DD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738BA-F1E2-4647-86DF-C530503C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6656B-1A02-4F4A-8EF0-1710101D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42808-010A-426F-8240-50E2E526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E9F82-2649-474C-9DBA-FB7AC14C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08928-1DCE-4A20-95B0-9D4A6E70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6DC7F-AC3E-4E0A-A046-B349EE27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68C40-0250-4D4A-A7BD-8BF20234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5C318-557A-49E5-9E7E-8F8D18FB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8C6F7-7202-4A3F-9FD3-C4F26499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802-9AAE-43CE-8BBA-199DF11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9B5C2-1EF5-4066-8E1C-E4ADC6FD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03B67-071B-497D-86F0-E4908BDC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EA2B2-9227-4A78-B2FC-0B3DE050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53CA-D4D6-4DED-A83D-7C7032F0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71C05-E33C-41B4-904D-BDFF1867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D801-80C7-4B35-8E7E-85C292B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98904-1703-4196-AEB7-E5EA2332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7C2F5-F583-42C2-B3ED-1E15396D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AAA53-8C7D-4A6B-868D-44E19441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90C89-F280-4702-B110-4F83C72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CB4-62FE-4F1E-B1B7-9380CC08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7B330-F39F-4F31-AC08-387E72CF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F2412-8EF6-498E-8115-B127572B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DC592-52EF-4956-83C4-12636C7E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40101-66D5-4BD7-AA22-18ECBE35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75603-6253-4163-9C07-B81F3479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827B1-23BD-4ADF-B04E-BB1D39A3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61C65-C88D-441F-B2C7-E1F9E586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C7312-9D8B-4D61-AA25-E54F1AB2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3565-7A2E-4D63-8E14-C205E29C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25227-D08F-4532-B5F7-1EA3F2AB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E7B-42BA-4437-AF14-BB0B022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DCE8C-07E4-4EF1-841D-AA7757F9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32854-1726-4902-92A3-B44C15DF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BC5B4-CB8E-47EE-A785-95E4097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63322-3F22-41A0-A9AF-2341F88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98E31-F26C-41C8-BF71-2D96D9B3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281EA-2C13-4FA1-9751-06DEC9BD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39360-9F79-413D-B6E3-2CF4CBBC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FE71B-1465-4D9B-B4E2-8A741E5F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EEF79-E0E7-4582-94E4-286F8384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FCB6D-42B3-4F4A-AFEC-4B39BB74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D3A5-930E-49F1-8252-614648C2C4A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2E2A-C9A0-45E6-9D9C-019F1956930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026D-8320-4715-83CA-A3488CAF3E79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8A42-B509-4783-868B-467F23BF22B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8D22-CE6F-4AD3-873B-32B9F820DFE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DD5C-8488-4E7F-84EE-B4DC0B357A6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9875-E297-460A-B01E-E89F539CD752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AF37-F893-4624-9976-CA66EBA7479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D9EA-BFE7-4BB8-850B-845692AE79EA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A282-52F7-4EF8-AB40-C08F9A9B156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CC87-42DB-4340-B4E0-1C8B6B1ABA5F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C1D7-052F-45DE-AA74-557232F6383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C2E5-C94C-465B-81EC-5A4B1046EB5A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A12-85EE-4032-80C4-B82B6EB4051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1B70-6EF9-4432-878E-45B1B1F4D38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8490-4FD0-4A79-A82A-CA64189787E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256A-495E-41AB-8593-9F3E2EDC7E34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6145-E93E-4899-B9CF-2A00CAE5A87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6CBC-6CA8-45CE-B0D5-779A4C83E2C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0236-CCC1-4383-9B7C-EEBD113E6FF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84E9-CAC2-46C2-8E4B-12CEE9AF0D9A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F23-7991-4930-9B1B-3F7E06F6DA6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E403-2E73-4BDE-8AB3-EB4027505DF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3552-4E09-45EE-92BC-239E91B0786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aising Safe and Respectful Childre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55627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April 25, 201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hief John J. Moo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Dr. Brad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John Harutunian</a:t>
            </a:r>
            <a:br>
              <a:rPr sz="13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Picture 3" descr="book kids.jpg"/>
          <p:cNvPicPr/>
          <p:nvPr/>
        </p:nvPicPr>
        <p:blipFill>
          <a:blip r:embed="rId1"/>
          <a:stretch/>
        </p:blipFill>
        <p:spPr>
          <a:xfrm>
            <a:off x="6400800" y="228600"/>
            <a:ext cx="2438280" cy="18669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raising hands.jpg"/>
          <p:cNvPicPr/>
          <p:nvPr/>
        </p:nvPicPr>
        <p:blipFill>
          <a:blip r:embed="rId2"/>
          <a:stretch/>
        </p:blipFill>
        <p:spPr>
          <a:xfrm>
            <a:off x="3581280" y="3475080"/>
            <a:ext cx="3810240" cy="25351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" descr="salute boys.jpg"/>
          <p:cNvPicPr/>
          <p:nvPr/>
        </p:nvPicPr>
        <p:blipFill>
          <a:blip r:embed="rId3"/>
          <a:stretch/>
        </p:blipFill>
        <p:spPr>
          <a:xfrm>
            <a:off x="3505320" y="228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teens.bmp"/>
          <p:cNvPicPr/>
          <p:nvPr/>
        </p:nvPicPr>
        <p:blipFill>
          <a:blip r:embed="rId4"/>
          <a:stretch/>
        </p:blipFill>
        <p:spPr>
          <a:xfrm>
            <a:off x="380880" y="228600"/>
            <a:ext cx="2619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33520" y="2057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t I: Dr. Brad Jackson/John Harutuni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arental Concerns in 20111…national poll result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Benefits of social media us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Risks associated with social medi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at parents can do to help their chil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t II: Chief  John J. Moo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yber risks/issues from lens of law enforcement 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nappropriate actions or humor that may lead to civil rights violations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larify marijuana and social hosting issues and consequences in both civil and criminal arenas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t III: Discussion and Parent Question/Answ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chnology driving changes in parental concer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2009/10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2011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ildhood obesity – 38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ug abuse – 3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oking – 29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rnet Safety – 25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ess – 24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ullying – 2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en preg. – 2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ild abuse – 21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cohol abuse – 2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t enough phy activity – 2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ildhood obesity – 3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ug abuse – 3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oking – 25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en preg. – 2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ullying – 24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Internet Safety – 2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ess – 24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cohol abuse – 2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iving accidents – 21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Sexting – 2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ents…What you can d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t yourself an accou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gage your child in an on-going dialog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view privacy set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view rules for what is and is not appropriate to communicate, play and post onl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sider Family Media contra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8:27:26Z</dcterms:created>
  <dc:creator>John Harutunian</dc:creator>
  <dc:description/>
  <dc:language>en-US</dc:language>
  <cp:lastModifiedBy>Julie Elkan</cp:lastModifiedBy>
  <dcterms:modified xsi:type="dcterms:W3CDTF">2012-04-25T20:17:57Z</dcterms:modified>
  <cp:revision>9</cp:revision>
  <dc:subject/>
  <dc:title>Raising Safe and Respectful Children</dc:title>
</cp:coreProperties>
</file>